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50F6-B53C-4052-A3DC-8FA4D4629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0363-9D99-41BD-AC10-B6A245A937F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FD32-FC84-4682-BD36-A836DE3B8EF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4327-30F4-4847-8923-427928F0D1D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965-B32B-40CE-89D1-9D3675DD9A1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6585-6795-4EFC-B550-144DB980493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6FCC-98D6-4FF6-9334-F3F4914AB22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11B2-5167-421A-A805-D685FE9C98D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DE41-6921-4258-B44A-1B9C39CE3E7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CE89-4608-46CB-B86C-AF1DA2A8CBF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17F9-174A-4E2A-A28C-8E16E2C3FBA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955-A901-4E24-B4A3-5437B13C0D5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F58-1CB9-440A-B8CC-18EDE7CF5EE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7335-FB61-42B5-B3E4-5435BEB13A4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56A-1026-4841-AE92-47EA8F9A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518-94E2-4210-AC49-019A1935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5C5-1B40-40A5-B445-4658C36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679-D62E-43ED-815D-8A4A5DD8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D71-8CA3-4195-9755-D33B109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61B-4615-4E39-8835-4F5B828D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5BC-ECE8-4A58-BAED-7A93D445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8BA-6B60-4F7E-A21F-B5744A8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82F-5206-4DB3-8E1C-3E389E8B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32E-18FE-43F5-9F36-A57D6DCF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BD3-53D9-434C-8789-016DE4A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5EC-FD5C-49D4-87F8-1CCD1626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FA29-DC8F-4C8A-91A9-510DDEAFDE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EB9-4E09-44C0-B3C0-1A002E73F6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261F-8556-4F12-878E-C0AB59812F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13DB-C9D2-4ECC-B67E-7F37ADC1F2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16E6-ADFC-458F-AC63-F40CE69EDE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F1C9-B83B-4F09-9D3B-A570C7FD5B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6CCA-17B4-4BEE-B8A3-5F2651E8B0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C34C-7F63-4439-87A0-FE40946E1C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8"/>
          <p:cNvSpPr/>
          <p:nvPr/>
        </p:nvSpPr>
        <p:spPr>
          <a:xfrm>
            <a:off x="593640" y="53006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STU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96720" y="1989000"/>
            <a:ext cx="77756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B37-BC92-4F63-954E-E22ECC49F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819000" y="1844640"/>
            <a:ext cx="713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92A-000F-47F8-88B7-9D76673DDF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63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8727-E387-4ABF-A5C4-12D6039E3C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060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– H20,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5814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C03-1A5E-4B27-AC68-CE3732DF17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aždoroční 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E6EB-6359-4E56-A1AF-85353C3EC4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4BC9-7913-4187-B764-337C7C3234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9D3-03B7-47AD-BF83-8C3844A79E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8-12-18T10:29:07Z</dcterms:modified>
  <cp:revision>157</cp:revision>
  <dc:subject/>
  <dc:title>Prezentace aplikace PowerPoint</dc:title>
</cp:coreProperties>
</file>